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457-9A74-4550-90A6-00492B79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A62-866A-4E1D-8435-C8361D59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3CC-6BD1-4D90-8E8C-B4E7570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F06-B18F-4725-8EA7-DBE083E9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361-C6B1-4895-B8C3-09C98EE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9D-265A-49E1-B452-64177A1E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FC3-D135-42A9-9D4B-7CCEE42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5CE-645B-497D-ADC2-9D3AA37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FA9-B44F-4A17-93E7-F56C269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6EB-DF6D-4099-A473-69CDAA6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482-F9D5-408B-A31E-5042C18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35D-AD52-4AC4-972B-9E83B9D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01E-E103-4922-BDA6-3896C9D7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mwrestlingworldwide.com/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Over%20the%20Top%20-%20Final%20Arm%20wrestle%20-%20YouTube.mht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60" y="2538360"/>
            <a:ext cx="8915400" cy="147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ce – Mo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447920" y="9907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balanced Forc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523880" y="2209680"/>
            <a:ext cx="5486040" cy="3200400"/>
            <a:chOff x="1523880" y="2209680"/>
            <a:chExt cx="5486040" cy="3200400"/>
          </a:xfrm>
        </p:grpSpPr>
        <p:grpSp>
          <p:nvGrpSpPr>
            <p:cNvPr id="82" name="Group 10"/>
            <p:cNvGrpSpPr/>
            <p:nvPr/>
          </p:nvGrpSpPr>
          <p:grpSpPr>
            <a:xfrm>
              <a:off x="1523880" y="2209680"/>
              <a:ext cx="5486040" cy="3200400"/>
              <a:chOff x="1523880" y="2209680"/>
              <a:chExt cx="5486040" cy="3200400"/>
            </a:xfrm>
          </p:grpSpPr>
          <p:pic>
            <p:nvPicPr>
              <p:cNvPr id="83" name="Picture 2" descr="File Cabinets - Request Free Quotes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2209680"/>
                <a:ext cx="213372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AutoShape 3"/>
              <p:cNvSpPr/>
              <p:nvPr/>
            </p:nvSpPr>
            <p:spPr>
              <a:xfrm>
                <a:off x="1523880" y="3276720"/>
                <a:ext cx="1600200" cy="1323720"/>
              </a:xfrm>
              <a:prstGeom prst="rightArrow">
                <a:avLst>
                  <a:gd name="adj1" fmla="val 50000"/>
                  <a:gd name="adj2" fmla="val 3022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4"/>
              <p:cNvSpPr/>
              <p:nvPr/>
            </p:nvSpPr>
            <p:spPr>
              <a:xfrm rot="10800000">
                <a:off x="5409720" y="3352680"/>
                <a:ext cx="1600200" cy="990720"/>
              </a:xfrm>
              <a:prstGeom prst="rightArrow">
                <a:avLst>
                  <a:gd name="adj1" fmla="val 50000"/>
                  <a:gd name="adj2" fmla="val 4038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 Box 6"/>
            <p:cNvSpPr/>
            <p:nvPr/>
          </p:nvSpPr>
          <p:spPr>
            <a:xfrm>
              <a:off x="6402600" y="37339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918360" y="6095880"/>
            <a:ext cx="750204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lanced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 a change in mo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predict is going to happen to the file cabi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2.77521E-007 C 0.02274 -0.00532 0.04652 0.00208 0.06857 -0.00809 C 0.07517 -0.01665 0.07881 -0.01596 0.08802 -0.01596 E">
                                      <p:cBhvr>
                                        <p:cTn id="4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4"/>
          <p:cNvGrpSpPr/>
          <p:nvPr/>
        </p:nvGrpSpPr>
        <p:grpSpPr>
          <a:xfrm>
            <a:off x="304920" y="2666880"/>
            <a:ext cx="8394480" cy="2934000"/>
            <a:chOff x="304920" y="2666880"/>
            <a:chExt cx="8394480" cy="293400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2743200"/>
              <a:ext cx="19177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"/>
            <p:cNvPicPr/>
            <p:nvPr/>
          </p:nvPicPr>
          <p:blipFill>
            <a:blip r:embed="rId2"/>
            <a:stretch/>
          </p:blipFill>
          <p:spPr>
            <a:xfrm>
              <a:off x="6781680" y="2666880"/>
              <a:ext cx="1917720" cy="285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4"/>
            <p:cNvGrpSpPr/>
            <p:nvPr/>
          </p:nvGrpSpPr>
          <p:grpSpPr>
            <a:xfrm>
              <a:off x="1571760" y="3949560"/>
              <a:ext cx="6619680" cy="723960"/>
              <a:chOff x="1571760" y="3949560"/>
              <a:chExt cx="6619680" cy="72396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4724280" y="39625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6"/>
              <p:cNvGrpSpPr/>
              <p:nvPr/>
            </p:nvGrpSpPr>
            <p:grpSpPr>
              <a:xfrm>
                <a:off x="1571760" y="3949560"/>
                <a:ext cx="6619680" cy="723960"/>
                <a:chOff x="1571760" y="3949560"/>
                <a:chExt cx="6619680" cy="723960"/>
              </a:xfrm>
            </p:grpSpPr>
            <p:sp>
              <p:nvSpPr>
                <p:cNvPr id="95" name="Freeform 7"/>
                <p:cNvSpPr/>
                <p:nvPr/>
              </p:nvSpPr>
              <p:spPr>
                <a:xfrm>
                  <a:off x="1981080" y="3949560"/>
                  <a:ext cx="6210360" cy="723960"/>
                </a:xfrm>
                <a:custGeom>
                  <a:avLst/>
                  <a:gdLst>
                    <a:gd name="textAreaLeft" fmla="*/ 0 w 6210360"/>
                    <a:gd name="textAreaRight" fmla="*/ 6210720 w 621036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3912" h="456">
                      <a:moveTo>
                        <a:pt x="0" y="8"/>
                      </a:moveTo>
                      <a:cubicBezTo>
                        <a:pt x="1356" y="28"/>
                        <a:pt x="2712" y="48"/>
                        <a:pt x="3312" y="56"/>
                      </a:cubicBezTo>
                      <a:cubicBezTo>
                        <a:pt x="3912" y="64"/>
                        <a:pt x="3576" y="0"/>
                        <a:pt x="3600" y="56"/>
                      </a:cubicBezTo>
                      <a:cubicBezTo>
                        <a:pt x="3624" y="112"/>
                        <a:pt x="3496" y="328"/>
                        <a:pt x="3456" y="392"/>
                      </a:cubicBezTo>
                      <a:cubicBezTo>
                        <a:pt x="3416" y="456"/>
                        <a:pt x="3388" y="448"/>
                        <a:pt x="3360" y="440"/>
                      </a:cubicBezTo>
                    </a:path>
                  </a:pathLst>
                </a:custGeom>
                <a:noFill/>
                <a:ln w="763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8"/>
                <p:cNvSpPr/>
                <p:nvPr/>
              </p:nvSpPr>
              <p:spPr>
                <a:xfrm>
                  <a:off x="1571760" y="3962520"/>
                  <a:ext cx="419040" cy="45720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64" h="288">
                      <a:moveTo>
                        <a:pt x="264" y="0"/>
                      </a:moveTo>
                      <a:cubicBezTo>
                        <a:pt x="156" y="24"/>
                        <a:pt x="48" y="48"/>
                        <a:pt x="24" y="96"/>
                      </a:cubicBezTo>
                      <a:cubicBezTo>
                        <a:pt x="0" y="144"/>
                        <a:pt x="60" y="216"/>
                        <a:pt x="120" y="288"/>
                      </a:cubicBezTo>
                    </a:path>
                  </a:pathLst>
                </a:custGeom>
                <a:noFill/>
                <a:ln w="7632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" name="WordArt 9"/>
          <p:cNvSpPr txBox="1"/>
          <p:nvPr/>
        </p:nvSpPr>
        <p:spPr>
          <a:xfrm>
            <a:off x="1981080" y="457200"/>
            <a:ext cx="441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g a Wa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0" y="5562720"/>
            <a:ext cx="8077320" cy="1143000"/>
            <a:chOff x="0" y="5562720"/>
            <a:chExt cx="8077320" cy="1143000"/>
          </a:xfrm>
        </p:grpSpPr>
        <p:sp>
          <p:nvSpPr>
            <p:cNvPr id="99" name="AutoShape 11"/>
            <p:cNvSpPr/>
            <p:nvPr/>
          </p:nvSpPr>
          <p:spPr>
            <a:xfrm>
              <a:off x="0" y="5715000"/>
              <a:ext cx="1600200" cy="990720"/>
            </a:xfrm>
            <a:prstGeom prst="leftArrow">
              <a:avLst>
                <a:gd name="adj1" fmla="val 50000"/>
                <a:gd name="adj2" fmla="val 403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6858000" y="5562720"/>
              <a:ext cx="1219320" cy="652320"/>
            </a:xfrm>
            <a:prstGeom prst="rightArrow">
              <a:avLst>
                <a:gd name="adj1" fmla="val 50000"/>
                <a:gd name="adj2" fmla="val 467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5"/>
          <p:cNvSpPr/>
          <p:nvPr/>
        </p:nvSpPr>
        <p:spPr>
          <a:xfrm>
            <a:off x="1219320" y="1676520"/>
            <a:ext cx="990360" cy="1600200"/>
          </a:xfrm>
          <a:prstGeom prst="wedgeRectCallout">
            <a:avLst>
              <a:gd name="adj1" fmla="val -49361"/>
              <a:gd name="adj2" fmla="val 75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 baby I wo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6358E-006 C -0.00851 -0.00277 -0.01684 -0.00601 -0.02535 -0.00832 C -0.03177 -0.00763 -0.0382 -0.00763 -0.04445 -0.00624 C -0.04827 -0.00555 -0.05174 -0.00231 -0.05556 -0.00208 C -0.06458 -0.00161 -0.07344 -0.00346 -0.08247 -0.00416 C -0.09011 -0.00739 -0.10625 -0.00832 -0.10625 -0.00832 E">
                                      <p:cBhvr>
                                        <p:cTn id="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2"/>
          <p:cNvGrpSpPr/>
          <p:nvPr/>
        </p:nvGrpSpPr>
        <p:grpSpPr>
          <a:xfrm>
            <a:off x="304920" y="1523880"/>
            <a:ext cx="3843360" cy="1600200"/>
            <a:chOff x="304920" y="1523880"/>
            <a:chExt cx="3843360" cy="1600200"/>
          </a:xfrm>
        </p:grpSpPr>
        <p:grpSp>
          <p:nvGrpSpPr>
            <p:cNvPr id="103" name="Group 31"/>
            <p:cNvGrpSpPr/>
            <p:nvPr/>
          </p:nvGrpSpPr>
          <p:grpSpPr>
            <a:xfrm>
              <a:off x="304920" y="1523880"/>
              <a:ext cx="3843360" cy="1600200"/>
              <a:chOff x="304920" y="1523880"/>
              <a:chExt cx="3843360" cy="1600200"/>
            </a:xfrm>
          </p:grpSpPr>
          <p:pic>
            <p:nvPicPr>
              <p:cNvPr id="104" name="Picture 3" descr="File Cabinets - Request Free Quotes"/>
              <p:cNvPicPr/>
              <p:nvPr/>
            </p:nvPicPr>
            <p:blipFill>
              <a:blip r:embed="rId1"/>
              <a:stretch/>
            </p:blipFill>
            <p:spPr>
              <a:xfrm>
                <a:off x="1771560" y="1523880"/>
                <a:ext cx="146700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AutoShape 4"/>
              <p:cNvSpPr/>
              <p:nvPr/>
            </p:nvSpPr>
            <p:spPr>
              <a:xfrm>
                <a:off x="304920" y="205740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5"/>
              <p:cNvSpPr/>
              <p:nvPr/>
            </p:nvSpPr>
            <p:spPr>
              <a:xfrm rot="10800000">
                <a:off x="3429000" y="1828440"/>
                <a:ext cx="719280" cy="622440"/>
              </a:xfrm>
              <a:prstGeom prst="rightArrow">
                <a:avLst>
                  <a:gd name="adj1" fmla="val 50000"/>
                  <a:gd name="adj2" fmla="val 2889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7"/>
            <p:cNvSpPr/>
            <p:nvPr/>
          </p:nvSpPr>
          <p:spPr>
            <a:xfrm>
              <a:off x="3607200" y="19620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154800" y="152280"/>
            <a:ext cx="174276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5562720" y="1219320"/>
            <a:ext cx="1996920" cy="1460160"/>
            <a:chOff x="5562720" y="1219320"/>
            <a:chExt cx="1996920" cy="1460160"/>
          </a:xfrm>
        </p:grpSpPr>
        <p:sp>
          <p:nvSpPr>
            <p:cNvPr id="110" name="AutoShape 16"/>
            <p:cNvSpPr/>
            <p:nvPr/>
          </p:nvSpPr>
          <p:spPr>
            <a:xfrm rot="10800000">
              <a:off x="5638680" y="2057040"/>
              <a:ext cx="719280" cy="622440"/>
            </a:xfrm>
            <a:prstGeom prst="rightArrow">
              <a:avLst>
                <a:gd name="adj1" fmla="val 50000"/>
                <a:gd name="adj2" fmla="val 288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33"/>
            <p:cNvGrpSpPr/>
            <p:nvPr/>
          </p:nvGrpSpPr>
          <p:grpSpPr>
            <a:xfrm>
              <a:off x="5562720" y="1219320"/>
              <a:ext cx="1996920" cy="1319040"/>
              <a:chOff x="5562720" y="1219320"/>
              <a:chExt cx="1996920" cy="1319040"/>
            </a:xfrm>
          </p:grpSpPr>
          <p:sp>
            <p:nvSpPr>
              <p:cNvPr id="112" name="AutoShape 15"/>
              <p:cNvSpPr/>
              <p:nvPr/>
            </p:nvSpPr>
            <p:spPr>
              <a:xfrm>
                <a:off x="5562720" y="121932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5777280" y="2170080"/>
                <a:ext cx="5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7086600" y="1676520"/>
                <a:ext cx="473040" cy="581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AutoShape 19"/>
          <p:cNvSpPr/>
          <p:nvPr/>
        </p:nvSpPr>
        <p:spPr>
          <a:xfrm>
            <a:off x="8001000" y="167652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4"/>
          <p:cNvGrpSpPr/>
          <p:nvPr/>
        </p:nvGrpSpPr>
        <p:grpSpPr>
          <a:xfrm>
            <a:off x="762120" y="4419720"/>
            <a:ext cx="2685960" cy="1676160"/>
            <a:chOff x="762120" y="4419720"/>
            <a:chExt cx="2685960" cy="1676160"/>
          </a:xfrm>
        </p:grpSpPr>
        <p:pic>
          <p:nvPicPr>
            <p:cNvPr id="117" name="Picture 20" descr="File Cabinets - Request Free Quotes"/>
            <p:cNvPicPr/>
            <p:nvPr/>
          </p:nvPicPr>
          <p:blipFill>
            <a:blip r:embed="rId2"/>
            <a:stretch/>
          </p:blipFill>
          <p:spPr>
            <a:xfrm>
              <a:off x="1981080" y="4419720"/>
              <a:ext cx="146700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23"/>
            <p:cNvGrpSpPr/>
            <p:nvPr/>
          </p:nvGrpSpPr>
          <p:grpSpPr>
            <a:xfrm>
              <a:off x="762120" y="4724280"/>
              <a:ext cx="1100160" cy="1371600"/>
              <a:chOff x="762120" y="4724280"/>
              <a:chExt cx="1100160" cy="1371600"/>
            </a:xfrm>
          </p:grpSpPr>
          <p:sp>
            <p:nvSpPr>
              <p:cNvPr id="119" name="AutoShape 21"/>
              <p:cNvSpPr/>
              <p:nvPr/>
            </p:nvSpPr>
            <p:spPr>
              <a:xfrm>
                <a:off x="762120" y="472428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22"/>
              <p:cNvSpPr/>
              <p:nvPr/>
            </p:nvSpPr>
            <p:spPr>
              <a:xfrm>
                <a:off x="990720" y="5486400"/>
                <a:ext cx="761760" cy="609480"/>
              </a:xfrm>
              <a:prstGeom prst="rightArrow">
                <a:avLst>
                  <a:gd name="adj1" fmla="val 50000"/>
                  <a:gd name="adj2" fmla="val 312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35"/>
          <p:cNvGrpSpPr/>
          <p:nvPr/>
        </p:nvGrpSpPr>
        <p:grpSpPr>
          <a:xfrm>
            <a:off x="5562720" y="4419720"/>
            <a:ext cx="2073240" cy="1371600"/>
            <a:chOff x="5562720" y="4419720"/>
            <a:chExt cx="2073240" cy="1371600"/>
          </a:xfrm>
        </p:grpSpPr>
        <p:grpSp>
          <p:nvGrpSpPr>
            <p:cNvPr id="122" name="Group 25"/>
            <p:cNvGrpSpPr/>
            <p:nvPr/>
          </p:nvGrpSpPr>
          <p:grpSpPr>
            <a:xfrm>
              <a:off x="5562720" y="4419720"/>
              <a:ext cx="1100160" cy="1371600"/>
              <a:chOff x="5562720" y="4419720"/>
              <a:chExt cx="1100160" cy="1371600"/>
            </a:xfrm>
          </p:grpSpPr>
          <p:sp>
            <p:nvSpPr>
              <p:cNvPr id="123" name="AutoShape 26"/>
              <p:cNvSpPr/>
              <p:nvPr/>
            </p:nvSpPr>
            <p:spPr>
              <a:xfrm>
                <a:off x="5562720" y="4419720"/>
                <a:ext cx="1100160" cy="662040"/>
              </a:xfrm>
              <a:prstGeom prst="rightArrow">
                <a:avLst>
                  <a:gd name="adj1" fmla="val 50000"/>
                  <a:gd name="adj2" fmla="val 4154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7"/>
              <p:cNvSpPr/>
              <p:nvPr/>
            </p:nvSpPr>
            <p:spPr>
              <a:xfrm>
                <a:off x="5791320" y="5181840"/>
                <a:ext cx="761760" cy="609480"/>
              </a:xfrm>
              <a:prstGeom prst="rightArrow">
                <a:avLst>
                  <a:gd name="adj1" fmla="val 50000"/>
                  <a:gd name="adj2" fmla="val 312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28"/>
            <p:cNvSpPr/>
            <p:nvPr/>
          </p:nvSpPr>
          <p:spPr>
            <a:xfrm>
              <a:off x="7162920" y="4724280"/>
              <a:ext cx="473040" cy="5814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29"/>
          <p:cNvSpPr/>
          <p:nvPr/>
        </p:nvSpPr>
        <p:spPr>
          <a:xfrm>
            <a:off x="7848720" y="4419720"/>
            <a:ext cx="1295280" cy="1218960"/>
          </a:xfrm>
          <a:prstGeom prst="rightArrow">
            <a:avLst>
              <a:gd name="adj1" fmla="val 50000"/>
              <a:gd name="adj2" fmla="val 26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1710360" y="0"/>
            <a:ext cx="795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net force can also be defined as the overall force ac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 object,  when all the individual forces acting on the objec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ed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. Overall power/energy/physical strengt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-1800" y="3200400"/>
            <a:ext cx="56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find the net force – subtract the opposing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ile Cabinets - Request Free Quotes"/>
          <p:cNvPicPr/>
          <p:nvPr/>
        </p:nvPicPr>
        <p:blipFill>
          <a:blip r:embed="rId1"/>
          <a:stretch/>
        </p:blipFill>
        <p:spPr>
          <a:xfrm>
            <a:off x="3780000" y="533520"/>
            <a:ext cx="1706400" cy="24001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5715000" y="1143000"/>
            <a:ext cx="1828800" cy="990720"/>
          </a:xfrm>
          <a:prstGeom prst="leftArrow">
            <a:avLst>
              <a:gd name="adj1" fmla="val 50000"/>
              <a:gd name="adj2" fmla="val 4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1981080" y="914400"/>
            <a:ext cx="1279440" cy="2057040"/>
            <a:chOff x="1981080" y="914400"/>
            <a:chExt cx="1279440" cy="2057040"/>
          </a:xfrm>
        </p:grpSpPr>
        <p:sp>
          <p:nvSpPr>
            <p:cNvPr id="132" name="AutoShape 13"/>
            <p:cNvSpPr/>
            <p:nvPr/>
          </p:nvSpPr>
          <p:spPr>
            <a:xfrm>
              <a:off x="1981080" y="914400"/>
              <a:ext cx="1279440" cy="992880"/>
            </a:xfrm>
            <a:prstGeom prst="rightArrow">
              <a:avLst>
                <a:gd name="adj1" fmla="val 50000"/>
                <a:gd name="adj2" fmla="val 322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2246760" y="2057400"/>
              <a:ext cx="885960" cy="914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9"/>
          <p:cNvGrpSpPr/>
          <p:nvPr/>
        </p:nvGrpSpPr>
        <p:grpSpPr>
          <a:xfrm>
            <a:off x="1447920" y="3809880"/>
            <a:ext cx="4114800" cy="3048120"/>
            <a:chOff x="1447920" y="3809880"/>
            <a:chExt cx="4114800" cy="3048120"/>
          </a:xfrm>
        </p:grpSpPr>
        <p:grpSp>
          <p:nvGrpSpPr>
            <p:cNvPr id="135" name="Group 6"/>
            <p:cNvGrpSpPr/>
            <p:nvPr/>
          </p:nvGrpSpPr>
          <p:grpSpPr>
            <a:xfrm>
              <a:off x="1905120" y="3809880"/>
              <a:ext cx="1279080" cy="2057040"/>
              <a:chOff x="1905120" y="3809880"/>
              <a:chExt cx="1279080" cy="2057040"/>
            </a:xfrm>
          </p:grpSpPr>
          <p:sp>
            <p:nvSpPr>
              <p:cNvPr id="136" name="AutoShape 7"/>
              <p:cNvSpPr/>
              <p:nvPr/>
            </p:nvSpPr>
            <p:spPr>
              <a:xfrm>
                <a:off x="1905120" y="3809880"/>
                <a:ext cx="1279080" cy="992880"/>
              </a:xfrm>
              <a:prstGeom prst="rightArrow">
                <a:avLst>
                  <a:gd name="adj1" fmla="val 50000"/>
                  <a:gd name="adj2" fmla="val 3220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8"/>
              <p:cNvSpPr/>
              <p:nvPr/>
            </p:nvSpPr>
            <p:spPr>
              <a:xfrm>
                <a:off x="2170800" y="4952880"/>
                <a:ext cx="885600" cy="9140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5"/>
            <p:cNvSpPr/>
            <p:nvPr/>
          </p:nvSpPr>
          <p:spPr>
            <a:xfrm>
              <a:off x="4114800" y="4724280"/>
              <a:ext cx="144792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1447920" y="5867280"/>
              <a:ext cx="1828800" cy="990720"/>
            </a:xfrm>
            <a:prstGeom prst="leftArrow">
              <a:avLst>
                <a:gd name="adj1" fmla="val 50000"/>
                <a:gd name="adj2" fmla="val 4614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7"/>
          <p:cNvSpPr/>
          <p:nvPr/>
        </p:nvSpPr>
        <p:spPr>
          <a:xfrm>
            <a:off x="6172200" y="47242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573080" y="373392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 – 9 = 3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ogs are pulling on opposite ends of a rope. The dog on the left is pulling with a force of 25newtons. The dog on the right is pulling with a force of 60 newtons. What will be the resulting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he dogs will not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 The dogs will move toward the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 The dogs will move toward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 Both dogs will move in the direction that they are pu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328743"/>
          <p:cNvPicPr/>
          <p:nvPr/>
        </p:nvPicPr>
        <p:blipFill>
          <a:blip r:embed="rId1"/>
          <a:stretch/>
        </p:blipFill>
        <p:spPr>
          <a:xfrm>
            <a:off x="2438280" y="457200"/>
            <a:ext cx="3961080" cy="1652760"/>
          </a:xfrm>
          <a:prstGeom prst="rect">
            <a:avLst/>
          </a:prstGeom>
          <a:ln w="0">
            <a:noFill/>
          </a:ln>
        </p:spPr>
      </p:pic>
      <p:sp>
        <p:nvSpPr>
          <p:cNvPr id="145" name="Oval 5"/>
          <p:cNvSpPr/>
          <p:nvPr/>
        </p:nvSpPr>
        <p:spPr>
          <a:xfrm>
            <a:off x="457200" y="5105520"/>
            <a:ext cx="457200" cy="4572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f the forces are acting on the same</a:t>
            </a: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side of the object, you _____ th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4369680"/>
            <a:ext cx="1800360" cy="96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295280" y="2971800"/>
            <a:ext cx="2133720" cy="1066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MC900290940[1]"/>
          <p:cNvPicPr/>
          <p:nvPr/>
        </p:nvPicPr>
        <p:blipFill>
          <a:blip r:embed="rId1"/>
          <a:stretch/>
        </p:blipFill>
        <p:spPr>
          <a:xfrm>
            <a:off x="4876920" y="380988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158160" y="573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f the forces are acting on the opposite sides of the object, you ________ th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3950640"/>
            <a:ext cx="3600720" cy="73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562720" y="3733920"/>
            <a:ext cx="2590560" cy="1143000"/>
          </a:xfrm>
          <a:prstGeom prst="leftArrow">
            <a:avLst>
              <a:gd name="adj1" fmla="val 50000"/>
              <a:gd name="adj2" fmla="val 566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890720" y="19699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1. Which direction will the box      move – left or right? _______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2. What amount of force will move the box?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62120" y="4038480"/>
            <a:ext cx="2438280" cy="1676520"/>
          </a:xfrm>
          <a:prstGeom prst="rightArrow">
            <a:avLst>
              <a:gd name="adj1" fmla="val 50000"/>
              <a:gd name="adj2" fmla="val 363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MC900290940[1]"/>
          <p:cNvPicPr/>
          <p:nvPr/>
        </p:nvPicPr>
        <p:blipFill>
          <a:blip r:embed="rId1"/>
          <a:stretch/>
        </p:blipFill>
        <p:spPr>
          <a:xfrm>
            <a:off x="3657600" y="396252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>
            <a:off x="5562720" y="4343400"/>
            <a:ext cx="2590560" cy="1143000"/>
          </a:xfrm>
          <a:prstGeom prst="leftArrow">
            <a:avLst>
              <a:gd name="adj1" fmla="val 50000"/>
              <a:gd name="adj2" fmla="val 566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6327000" y="94788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279240" y="281952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9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rection will the car m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j0212957"/>
          <p:cNvPicPr/>
          <p:nvPr/>
        </p:nvPicPr>
        <p:blipFill>
          <a:blip r:embed="rId1"/>
          <a:stretch/>
        </p:blipFill>
        <p:spPr>
          <a:xfrm>
            <a:off x="3124080" y="2971800"/>
            <a:ext cx="2819520" cy="1770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0"/>
          <p:cNvSpPr/>
          <p:nvPr/>
        </p:nvSpPr>
        <p:spPr>
          <a:xfrm>
            <a:off x="533520" y="3505320"/>
            <a:ext cx="2209680" cy="1295280"/>
          </a:xfrm>
          <a:prstGeom prst="rightArrow">
            <a:avLst>
              <a:gd name="adj1" fmla="val 50000"/>
              <a:gd name="adj2" fmla="val 42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6553080" y="403848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62840" y="5562720"/>
            <a:ext cx="798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ght due to more force ap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total force being applied to the left side of the box? 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What is the total force being applied to the right side of the box? 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.  Which direction will the box move? 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.  What amount of force will move the file cabinet?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914400" y="3352680"/>
            <a:ext cx="2362320" cy="1447920"/>
          </a:xfrm>
          <a:prstGeom prst="rightArrow">
            <a:avLst>
              <a:gd name="adj1" fmla="val 50000"/>
              <a:gd name="adj2" fmla="val 40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553080" y="4800600"/>
            <a:ext cx="1828800" cy="1447920"/>
          </a:xfrm>
          <a:prstGeom prst="leftArrow">
            <a:avLst>
              <a:gd name="adj1" fmla="val 50000"/>
              <a:gd name="adj2" fmla="val 31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MC900290940[1]"/>
          <p:cNvPicPr/>
          <p:nvPr/>
        </p:nvPicPr>
        <p:blipFill>
          <a:blip r:embed="rId1"/>
          <a:stretch/>
        </p:blipFill>
        <p:spPr>
          <a:xfrm>
            <a:off x="4038480" y="4191120"/>
            <a:ext cx="1333800" cy="1731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"/>
          <p:cNvSpPr/>
          <p:nvPr/>
        </p:nvSpPr>
        <p:spPr>
          <a:xfrm>
            <a:off x="838080" y="5029200"/>
            <a:ext cx="2286000" cy="1295280"/>
          </a:xfrm>
          <a:prstGeom prst="rightArrow">
            <a:avLst>
              <a:gd name="adj1" fmla="val 50000"/>
              <a:gd name="adj2" fmla="val 441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662120" y="4968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+ 75 = 9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288880" y="1679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159240" y="2173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402960" y="35812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– 80 = 1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Arm Wrestling World W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67652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25880" y="304920"/>
            <a:ext cx="82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eorgia"/>
              </a:rPr>
              <a:t>Arm Wrestling Compet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7120" y="4952880"/>
            <a:ext cx="81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:\Force and Motion\6th 2011\Over the Top - Final Arm wrestle - YouTube.m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4040" y="1219320"/>
            <a:ext cx="9283680" cy="301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uss with a partner how 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describe FORCE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3 things that describe fo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2647800"/>
            <a:ext cx="9275760" cy="2775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push or a pull on an object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666880" y="45720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C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03460"/>
          <p:cNvPicPr/>
          <p:nvPr/>
        </p:nvPicPr>
        <p:blipFill>
          <a:blip r:embed="rId1"/>
          <a:stretch/>
        </p:blipFill>
        <p:spPr>
          <a:xfrm>
            <a:off x="2209680" y="3294000"/>
            <a:ext cx="4953240" cy="3564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6280" y="0"/>
            <a:ext cx="8440920" cy="3262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below shows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 players putting f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ll which cause the ball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ould you describe the for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ing put on the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126160" y="2481120"/>
            <a:ext cx="4700880" cy="4115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rength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ush or Pu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04920" y="45720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ce can be described by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8"/>
          <p:cNvGraphicFramePr/>
          <p:nvPr/>
        </p:nvGraphicFramePr>
        <p:xfrm>
          <a:off x="5029200" y="2133720"/>
          <a:ext cx="191772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133720"/>
                    <a:ext cx="19177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7"/>
          <p:cNvGraphicFramePr/>
          <p:nvPr/>
        </p:nvGraphicFramePr>
        <p:xfrm>
          <a:off x="1727280" y="2209680"/>
          <a:ext cx="1917720" cy="28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2209680"/>
                    <a:ext cx="1917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6" descr="File Cabinets - Request Free Quotes"/>
          <p:cNvPicPr/>
          <p:nvPr/>
        </p:nvPicPr>
        <p:blipFill>
          <a:blip r:embed="rId5"/>
          <a:stretch/>
        </p:blipFill>
        <p:spPr>
          <a:xfrm>
            <a:off x="3276720" y="228600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9"/>
          <p:cNvSpPr/>
          <p:nvPr/>
        </p:nvSpPr>
        <p:spPr>
          <a:xfrm>
            <a:off x="6172200" y="990720"/>
            <a:ext cx="1295280" cy="1447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76880" y="126540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t p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ant thi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offic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990720" y="1600200"/>
            <a:ext cx="1447560" cy="1219320"/>
          </a:xfrm>
          <a:prstGeom prst="wedgeRectCallout">
            <a:avLst>
              <a:gd name="adj1" fmla="val 86513"/>
              <a:gd name="adj2" fmla="val 75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050840" y="1660680"/>
            <a:ext cx="132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w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y off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04920" y="5911920"/>
            <a:ext cx="8839080" cy="94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eople are pushing hard.  Why isn’t the file cabinet mo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87283E-006 C 0.00608 0.00277 0.01076 0.00254 0.00469 0.01063 C 0.00573 0.01202 0.00798 0.0148 0.00798 0.0148 C -0.00642 0.00855 0.00955 0.01688 0.00798 0.01063 C 0.00677 0.00578 0.0026 0.00347 1.38889E-006 3.87283E-006 Z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5723E-006 C 0.00712 0.00994 0.00052 -0.00185 0.00156 0.01064 C 0.00191 0.01503 0.00469 0.02335 0.00469 0.02335 C 0.00417 0.01711 0.00365 0.01064 0.00313 0.00439 C 0.00295 0.00139 0.00625 0.01272 0.00625 0.01272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ile Cabinets - Request Free Quotes"/>
          <p:cNvPicPr/>
          <p:nvPr/>
        </p:nvPicPr>
        <p:blipFill>
          <a:blip r:embed="rId1"/>
          <a:stretch/>
        </p:blipFill>
        <p:spPr>
          <a:xfrm>
            <a:off x="3276720" y="236232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1604880" y="3400560"/>
            <a:ext cx="1600200" cy="990360"/>
          </a:xfrm>
          <a:prstGeom prst="rightArrow">
            <a:avLst>
              <a:gd name="adj1" fmla="val 50000"/>
              <a:gd name="adj2" fmla="val 40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10800000">
            <a:off x="5409720" y="335268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1447920" y="3049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alanced Forc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929560" y="3693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60440" y="5562720"/>
            <a:ext cx="83754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 a change in mo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94200" y="1676520"/>
            <a:ext cx="69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ces are measured 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917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19177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5"/>
          <p:cNvGrpSpPr/>
          <p:nvPr/>
        </p:nvGrpSpPr>
        <p:grpSpPr>
          <a:xfrm>
            <a:off x="1571760" y="3949560"/>
            <a:ext cx="6619680" cy="723960"/>
            <a:chOff x="1571760" y="3949560"/>
            <a:chExt cx="6619680" cy="723960"/>
          </a:xfrm>
        </p:grpSpPr>
        <p:sp>
          <p:nvSpPr>
            <p:cNvPr id="72" name="Rectangle 10"/>
            <p:cNvSpPr/>
            <p:nvPr/>
          </p:nvSpPr>
          <p:spPr>
            <a:xfrm>
              <a:off x="4724280" y="3962520"/>
              <a:ext cx="304920" cy="15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4"/>
            <p:cNvGrpSpPr/>
            <p:nvPr/>
          </p:nvGrpSpPr>
          <p:grpSpPr>
            <a:xfrm>
              <a:off x="1571760" y="3949560"/>
              <a:ext cx="6619680" cy="723960"/>
              <a:chOff x="1571760" y="3949560"/>
              <a:chExt cx="6619680" cy="723960"/>
            </a:xfrm>
          </p:grpSpPr>
          <p:sp>
            <p:nvSpPr>
              <p:cNvPr id="74" name="Freeform 9"/>
              <p:cNvSpPr/>
              <p:nvPr/>
            </p:nvSpPr>
            <p:spPr>
              <a:xfrm>
                <a:off x="1981080" y="3949560"/>
                <a:ext cx="6210360" cy="723960"/>
              </a:xfrm>
              <a:custGeom>
                <a:avLst/>
                <a:gdLst>
                  <a:gd name="textAreaLeft" fmla="*/ 0 w 6210360"/>
                  <a:gd name="textAreaRight" fmla="*/ 6210720 w 621036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3912" h="456">
                    <a:moveTo>
                      <a:pt x="0" y="8"/>
                    </a:moveTo>
                    <a:cubicBezTo>
                      <a:pt x="1356" y="28"/>
                      <a:pt x="2712" y="48"/>
                      <a:pt x="3312" y="56"/>
                    </a:cubicBezTo>
                    <a:cubicBezTo>
                      <a:pt x="3912" y="64"/>
                      <a:pt x="3576" y="0"/>
                      <a:pt x="3600" y="56"/>
                    </a:cubicBezTo>
                    <a:cubicBezTo>
                      <a:pt x="3624" y="112"/>
                      <a:pt x="3496" y="328"/>
                      <a:pt x="3456" y="392"/>
                    </a:cubicBezTo>
                    <a:cubicBezTo>
                      <a:pt x="3416" y="456"/>
                      <a:pt x="3388" y="448"/>
                      <a:pt x="3360" y="44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1571760" y="3962520"/>
                <a:ext cx="419040" cy="4572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64" h="288">
                    <a:moveTo>
                      <a:pt x="264" y="0"/>
                    </a:moveTo>
                    <a:cubicBezTo>
                      <a:pt x="156" y="24"/>
                      <a:pt x="48" y="48"/>
                      <a:pt x="24" y="96"/>
                    </a:cubicBezTo>
                    <a:cubicBezTo>
                      <a:pt x="0" y="144"/>
                      <a:pt x="60" y="216"/>
                      <a:pt x="120" y="288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WordArt 16"/>
          <p:cNvSpPr txBox="1"/>
          <p:nvPr/>
        </p:nvSpPr>
        <p:spPr>
          <a:xfrm>
            <a:off x="1981080" y="457200"/>
            <a:ext cx="441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g a Wa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457200" y="5334120"/>
            <a:ext cx="8077320" cy="838080"/>
            <a:chOff x="457200" y="5334120"/>
            <a:chExt cx="8077320" cy="838080"/>
          </a:xfrm>
        </p:grpSpPr>
        <p:sp>
          <p:nvSpPr>
            <p:cNvPr id="78" name="AutoShape 17"/>
            <p:cNvSpPr/>
            <p:nvPr/>
          </p:nvSpPr>
          <p:spPr>
            <a:xfrm>
              <a:off x="457200" y="5486400"/>
              <a:ext cx="1219320" cy="685800"/>
            </a:xfrm>
            <a:prstGeom prst="leftArrow">
              <a:avLst>
                <a:gd name="adj1" fmla="val 50000"/>
                <a:gd name="adj2" fmla="val 444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7315200" y="5334120"/>
              <a:ext cx="1219320" cy="652320"/>
            </a:xfrm>
            <a:prstGeom prst="rightArrow">
              <a:avLst>
                <a:gd name="adj1" fmla="val 50000"/>
                <a:gd name="adj2" fmla="val 467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0104 0.00439 0.00156 0.00647 C 0.0026 0.01063 -0.00122 -0.00232 0 -0.00625 C 0.00069 -0.00833 0.0033 -0.00486 0.00486 -0.00417 C 0.00191 -0.00301 -0.00313 -0.00232 -0.00313 0.00416 C -0.00313 0.00901 0.00555 0.01572 -0.00469 0.00647 C -0.00417 0.00994 -0.00278 0.01341 -0.00313 0.01687 C -0.0033 0.01895 -0.00469 0.02127 -0.00625 0.02127 C -0.00955 0.02127 -0.01528 0 -0.01111 0.01687 C -0.00903 0.00346 -0.01042 0.00069 0 0.00416 C -0.00156 0.00208 -0.00313 -0.00417 -0.00469 -0.00209 C -0.00625 0.00023 -0.00399 0.00647 -0.00156 0.00647 C 0.0026 0.00647 -0.00851 -0.01087 -0.00469 -0.00833 C -0.00243 -0.00671 -0.00156 -0.00278 0 0 Z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0104 0.00439 0.00156 0.00647 C 0.0026 0.01063 -0.00122 -0.00232 0 -0.00625 C 0.00069 -0.00833 0.0033 -0.00486 0.00486 -0.00417 C 0.00191 -0.00301 -0.00313 -0.00232 -0.00313 0.00416 C -0.00313 0.00901 0.00555 0.01572 -0.00469 0.00647 C -0.00417 0.00994 -0.00278 0.01341 -0.00313 0.01687 C -0.0033 0.01895 -0.00469 0.02127 -0.00625 0.02127 C -0.00955 0.02127 -0.01528 0 -0.01111 0.01687 C -0.00903 0.00346 -0.01042 0.00069 0 0.00416 C -0.00156 0.00208 -0.00313 -0.00417 -0.00469 -0.00209 C -0.00625 0.00023 -0.00399 0.00647 -0.00156 0.00647 C 0.0026 0.00647 -0.00851 -0.01087 -0.00469 -0.00833 C -0.00243 -0.00671 -0.00156 -0.00278 0 0 Z">
                                      <p:cBhvr>
                                        <p:cTn id="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44:00Z</dcterms:created>
  <dc:creator>Admin</dc:creator>
  <dc:description/>
  <dc:language>en-US</dc:language>
  <cp:lastModifiedBy>jluckey</cp:lastModifiedBy>
  <dcterms:modified xsi:type="dcterms:W3CDTF">2012-11-28T15:54:50Z</dcterms:modified>
  <cp:revision>19</cp:revision>
  <dc:subject/>
  <dc:title>Force – Motion - Work</dc:title>
</cp:coreProperties>
</file>